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3D6C-51A7-40CF-BD57-E9AA0D0E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B3AA-480F-40EF-BAEF-2FBD2BB7D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CE5-0968-4F7E-AC39-D2638ABD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DA67-9852-491F-A28B-78C8A71CF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66CB-D7D9-4E7B-AC73-240627B38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A74E-D5D9-436D-B644-90746A950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188B-880F-4B7F-86FF-11C47D20D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E05-055C-4FF6-A630-437208C98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0642-C679-4309-8360-F0BC70B1A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1638-58C9-4B93-A521-35D3F2676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AF49-EB71-4170-8458-DE2C51714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1AB0-5F68-4A49-ADFC-85776EB7B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Bank Reconcil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6061-5E91-4168-A5E0-CBEA66FB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BFE7-0681-46F2-9AB2-33A9EFF8C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nd describe the features on the Reconcil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D57F-B8CE-4F0F-9CAA-5560C6C44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27A0-3F40-4119-83C6-501420480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467E-6DFF-4768-8762-8602E41F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73FE-FBBA-479E-96A9-4A1F6D8A1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D4AC-D175-4D8A-9B5B-BDD5D7F8E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2666-9D0F-452E-A4E9-AAE5713854B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0162-72EF-4815-8CA4-0A62D3AFDFD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B4CA-4F8B-41A7-B717-6AE2F307D9C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F144-0230-4810-9669-0C77FD07673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BCC0-F3DD-47BC-9207-A7BE315E0A7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2E5C-80DC-4406-9AFC-D4108F8F4FB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6E6D0-1E0A-412C-AD37-DE36D8C686A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64A4-5205-44E4-A2F8-7FDEBFC138A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4177-2FE8-4038-8B75-96894B9B74E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D425-CBF2-489D-8B50-603C24F3C08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CFCD-5937-449E-8228-C264AE12A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9201-514F-4D5A-A730-82A730A7635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38ED-7A1D-4C65-928C-5BAC028460F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EE82-ED5F-40F0-9EC7-C08E33FB71F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FD893-DF4A-4B21-A661-404B99A0869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DD592-9956-453E-922E-113C4AE4F3A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5DAF7-E929-4264-8A5E-393175A6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37E29-A546-4BD1-AFDA-44891A2F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CD348-C67C-447F-8BA7-A0E5C5EA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DD582-A2CB-46B0-B892-538830BE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2F645-E123-480E-B1FD-3A5DBAC9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8F45-F48D-48D2-8BA1-5B55AA1C90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C9881-8791-48F4-9823-0B6590D5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DFC09-D78F-4FE3-A090-7C60709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B9EBF-B7E1-4FDF-821C-FB2E34F6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437CE-903E-4839-BE6E-BB2D8CD1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2226E-E2C0-4E3F-924F-FCECDE0A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8CE5F-F335-484B-870D-39246566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15FA9-936D-407B-8D02-BDD5ED9C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1A667-3A0F-4B34-ADCF-F3FEA279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558B1-297D-4F85-B9A3-6F98B5F4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87F0E-7742-48B1-AB7A-5205E1CA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6B5E-8E63-4471-9400-175075523D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05693-00B2-4B95-A059-3963B5A2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4B0F8-3834-4AF3-AA04-F75318E4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E48A3-0C08-4707-A88D-6637BBB9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590C6-D851-4B36-BB83-546A45A3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9A988-FAE8-4FB0-BB60-18A38F16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C0EC0-A4DC-4CEB-B094-F068A1D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3923B-F528-444F-B5C6-DD3F235C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7DDA5-D620-433C-BD06-677B7D55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8AF86-538E-48D1-8B09-896A2916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7DB84-920A-4C5B-AE78-86DDC13B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2473-9E29-4AF2-9B65-BE6CB566CC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B0576-1961-4BA0-9672-CA0D3A72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A5783-C55B-4935-8BC0-79D17D6A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471BE-AC1C-45E8-8049-7537786F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7CFE8C-7F98-4762-BB5B-11FF48DB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AD4614-D141-4C9D-95C9-FBF17D96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ADCB41-BFEE-471A-BC32-3222A0D3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C3872-8DB7-4135-96CE-4D746FE6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7BC737-AE67-4086-BE06-F243CFE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1FEBA-C001-4273-9136-7541EBBF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D89D7-BDDB-4497-A525-0293736F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43DE-156E-47C7-9B5A-EE809224D90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44B91-B744-4542-90EC-2CC6B3A1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277CF-7C9A-4D68-A62A-8679C5B9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E7FD2-9449-48D7-9DEF-A6F9DFA3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6A4BE1-9664-4D8E-B7E5-D2E9F89A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7A59D-B428-41AE-A024-F4F821A3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DFF3B-7829-497B-A5A9-7F0D2A5F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CD25E-355B-475D-89FE-09794122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349E9-9470-4BE2-80B5-F8E0BCAA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06F9D-2BD2-4D98-955D-8CEAD4DF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25FF7-BAB6-4A24-AE27-F8CAEB6C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1279-6A46-4AE2-8BD1-A4DDF303FF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2AFFC-873A-4967-8E6D-C060E38D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B615F-D5ED-4343-B794-919B3025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526B8-9E10-49BF-85BF-9EE9D7A2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0C374-7052-444E-BA5E-77854604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9D9F6-4B14-446A-8854-ADB1EAF3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07460C-3B63-4FB9-BEB1-60E055D2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39BF0-47F0-4158-AA4D-166B79C6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FF850-9638-4DC0-8F9D-B0FA2A68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468BD-A67A-4C31-AE09-419172BF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225C2-9F0D-423E-B74B-450E0FB3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741C-0014-4138-91CB-E6EC885082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71BF2-7399-407B-8ED4-B1D06A2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DB1C8-1025-4D04-B532-59CBFE5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F034A-59FE-417B-BDA5-553A5380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98317-9CA6-458F-9172-F1C69C55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E51C6-A152-4737-A156-728B2A48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63027-7D1E-4522-9231-72A63DAE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F80E9-6749-4156-8945-97A86A5C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72FCA-1B49-4D3F-8773-DD0FA323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EB7F7-D441-4237-9CCE-D9284F2F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A6D63-E12F-4F60-8661-F8FA1A65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575E-E410-4B07-8F08-AD3538E63D7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719CB-F3E6-40A4-A879-2A5F4C83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A83D8-D9C5-4BD8-BA20-AA7B77DD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C222B5-1D32-4B81-8FD0-591043D0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88E7C-9CDC-41C6-8D0C-94B11E24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91D7E-E826-40F2-97BE-ECCA9255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97006-16E9-45A7-B3BD-FC25A628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E20E9-11B5-4A01-87F1-1DFCFD0A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4A78-1009-4E76-BB9F-0996F18081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6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28F-57E2-4AFD-88FA-8EF7074834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0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DDA2-353F-4217-B627-F5D6B4663D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9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3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E0DB-74C7-44B8-8B3A-DD92C4F158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1316-03BA-4CBC-96C7-94FEE40EF6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3278-4686-4398-BD46-C982AE1ACF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9865-1232-404D-A13E-1D594D94EC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9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38AD-B536-4D2A-8327-3D1ED43CB0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Rectangle 7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16840" cy="213984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automatically makes a reversing entry using the date of the current bank statement and same account that you used on the original trans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wo transactions cancel each other 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the difference is not zero when you click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concile Now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n the Reconcile window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transaction is created in the bank account for the differe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transaction is coded to the Reconciliation Discrepancies expense accoun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Correct the problem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lete the transaction that is coded to Reconciliation Discrepanc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o the Last Reconcili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erform the bank reconciliation again correctly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4" name=""/>
          <p:cNvSpPr txBox="1"/>
          <p:nvPr/>
        </p:nvSpPr>
        <p:spPr>
          <a:xfrm>
            <a:off x="457200" y="1676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unced checks are also know as NSF (non-sufficient fund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 two new transactions to your bank account register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e for the amount of the check that bounc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e for the fee charged by the ban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charge your customers a service fee for processing their NSF check, enter an Invoice for the custom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transaction in the bank account register and code it to Bank Service Charges using the actual date that the bank charged your accou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r vendor charges an extra fee for bouncing a check, enter a Bill (or use Write Checks) and code the charge to the Bank Service Charge accou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dit card accounts should be reconciled every mont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fter the reconciliation of credit cards, QuickBooks asks if it should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rite a check for payment no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er a bill for payment la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don’t want to pay the whole amount due on a credit card, edit the original Bill to match the amount you actually intend to pa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Picture 5" descr="C:\Users\DPEMBR~1\AppData\Local\Temp\SNAGHTML5a99f38.PNG"/>
          <p:cNvPicPr/>
          <p:nvPr/>
        </p:nvPicPr>
        <p:blipFill>
          <a:blip r:embed="rId1"/>
          <a:stretch/>
        </p:blipFill>
        <p:spPr>
          <a:xfrm>
            <a:off x="1957320" y="2209680"/>
            <a:ext cx="5229360" cy="4157640"/>
          </a:xfrm>
          <a:prstGeom prst="rect">
            <a:avLst/>
          </a:prstGeom>
          <a:ln w="0">
            <a:noFill/>
          </a:ln>
        </p:spPr>
      </p:pic>
      <p:pic>
        <p:nvPicPr>
          <p:cNvPr id="1500" name="Title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cessing Transactions Onl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Oval 4"/>
          <p:cNvSpPr/>
          <p:nvPr/>
        </p:nvSpPr>
        <p:spPr>
          <a:xfrm>
            <a:off x="4267080" y="4419720"/>
            <a:ext cx="152424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3" descr=""/>
          <p:cNvPicPr/>
          <p:nvPr/>
        </p:nvPicPr>
        <p:blipFill>
          <a:blip r:embed="rId2"/>
          <a:stretch/>
        </p:blipFill>
        <p:spPr>
          <a:xfrm>
            <a:off x="1066680" y="1627200"/>
            <a:ext cx="708984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concile your checking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bank reconciliation repor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nd errors during reconcili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rrect errors found during reconcili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corrections when QuickBooks automatically adjusts the balance in a bank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andle bounced chec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concile credit card accounts and record a bill for later payme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nline Bank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concile your checking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bank reconciliation repor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nd errors during reconcili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rrect errors found during reconcili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corrections when QuickBooks automatically adjusts the balance in a bank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andle bounced chec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concile credit card accounts and record a bill for later payme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nline Bank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nk account should be reconciled each mon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reconcile a bank accoun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ank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menu, and then select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Reconcile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nd select accou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eck Beginning balance should match the bank beginning bala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ter statement date, Ending balance, service charge and Interest earn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ch each line with the bank statemen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tch the deposits and other credit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tch the checks and other withdrawals on the bank statemen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fferen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ield should be 0.00 when finis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concile Now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pause reconciliation, cl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ea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Picture 4" descr="C:\Users\DPEMBR~1\AppData\Local\Temp\SNAGHTMLaaffd4.PNG"/>
          <p:cNvPicPr/>
          <p:nvPr/>
        </p:nvPicPr>
        <p:blipFill>
          <a:blip r:embed="rId1"/>
          <a:stretch/>
        </p:blipFill>
        <p:spPr>
          <a:xfrm>
            <a:off x="228600" y="1447920"/>
            <a:ext cx="8529480" cy="4952880"/>
          </a:xfrm>
          <a:prstGeom prst="rect">
            <a:avLst/>
          </a:prstGeom>
          <a:ln w="0">
            <a:noFill/>
          </a:ln>
        </p:spPr>
      </p:pic>
      <p:sp>
        <p:nvSpPr>
          <p:cNvPr id="1479" name="AutoShape 6"/>
          <p:cNvSpPr/>
          <p:nvPr/>
        </p:nvSpPr>
        <p:spPr>
          <a:xfrm>
            <a:off x="3352680" y="5376960"/>
            <a:ext cx="1905120" cy="609480"/>
          </a:xfrm>
          <a:solidFill>
            <a:srgbClr val="ffffff"/>
          </a:solidFill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anklin Gothic Demi"/>
              </a:rPr>
              <a:t>The difference here must be 0.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AutoShape 7"/>
          <p:cNvSpPr/>
          <p:nvPr/>
        </p:nvSpPr>
        <p:spPr>
          <a:xfrm>
            <a:off x="6726240" y="152280"/>
            <a:ext cx="2341440" cy="990720"/>
          </a:xfrm>
          <a:solidFill>
            <a:srgbClr val="ffffff"/>
          </a:solidFill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lick here if you want to see only transactions before the statement ending d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a successful reconciliation you can gener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Reconciliation Summar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repo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Reconciliation Detail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repo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Previous Reconciliation Report displ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ummar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tail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pt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ick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spla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to view the repo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ick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rin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to print the repo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Beginning Balance Field erro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e or more reconciled transactions were voided, deleted, or changed since the last reconcili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user removed the checkmark from one or more reconciled transactions in the account register since the last reconcili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orrectly Recorded transa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crepancy between a transaction in QuickBooks and a transaction on the bank statemen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on 1: Use the Reconciliation Discrepancy Repor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view the report for any changes to cleared transaction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er the corr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on 2: Undo the Bank Reconcili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e Begin Reconciliation window, select the bank Account and click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ocate Discrepanc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Undo Last Reconcilia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made the err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ke the correc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the bank made an err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er a transaction in the bank account register to adjust your balance for the err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void a check, double-click the transaction in the Reconcile window, select the Edit menu and select Void Check and then return to Reconcile windo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5:06:04Z</dcterms:modified>
  <cp:revision>138</cp:revision>
  <dc:subject/>
  <dc:title>Chapter 4 Bank Reconciliation</dc:title>
</cp:coreProperties>
</file>